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A98-3E54-489F-96B0-371CC2FE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D1BF-5D2A-48FD-A75F-5C8F5C55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C0A-A63D-465F-A2D0-EAB2CDBA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D7D3-92A7-4E3B-B40C-D605C879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536-BFC9-42D4-B70B-33CE7AF9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BBB4-13A3-45C8-A6BF-A84B2908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17F0-1154-4032-A1C0-FF343BD3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E56D-BFBA-450E-A674-820D87D3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EB7-70FB-483D-9B5C-4E7A775B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7EC-4286-4B02-A942-5D627802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4F41-76DD-430F-979B-2A3CFB3B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4FB9-4EDF-49C4-B0EE-B8F9E959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5E12-5510-418F-ADC4-0868F31A9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723924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anklin Gothic Heavy"/>
              </a:rPr>
              <a:t>Bad Dog, Dodger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590560"/>
            <a:ext cx="40384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5*Week 3*Day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Cj00844080000[1]"/>
          <p:cNvPicPr/>
          <p:nvPr/>
        </p:nvPicPr>
        <p:blipFill>
          <a:blip r:embed="rId1"/>
          <a:stretch/>
        </p:blipFill>
        <p:spPr>
          <a:xfrm>
            <a:off x="4572000" y="2209680"/>
            <a:ext cx="42703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Franklin Gothic Heavy"/>
              </a:rPr>
              <a:t>A weekly helper came to our class for the whole day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MCj00844080000[1]"/>
          <p:cNvPicPr/>
          <p:nvPr/>
        </p:nvPicPr>
        <p:blipFill>
          <a:blip r:embed="rId1"/>
          <a:stretch/>
        </p:blipFill>
        <p:spPr>
          <a:xfrm>
            <a:off x="6172200" y="3809880"/>
            <a:ext cx="2678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Franklin Gothic Heavy"/>
              </a:rPr>
              <a:t>I had enough meat to make the biggest, fattest sandwich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MCj00844080000[1]"/>
          <p:cNvPicPr/>
          <p:nvPr/>
        </p:nvPicPr>
        <p:blipFill>
          <a:blip r:embed="rId1"/>
          <a:stretch/>
        </p:blipFill>
        <p:spPr>
          <a:xfrm>
            <a:off x="6172200" y="3809880"/>
            <a:ext cx="2678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Franklin Gothic Heavy"/>
              </a:rPr>
              <a:t>Look above the shelf at the lovely gift for my teache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MCj00844080000[1]"/>
          <p:cNvPicPr/>
          <p:nvPr/>
        </p:nvPicPr>
        <p:blipFill>
          <a:blip r:embed="rId1"/>
          <a:stretch/>
        </p:blipFill>
        <p:spPr>
          <a:xfrm>
            <a:off x="6172200" y="3809880"/>
            <a:ext cx="2678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Franklin Gothic Heavy"/>
              </a:rPr>
              <a:t>It is the hardest word to read since it is longer than mos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MCj00844080000[1]"/>
          <p:cNvPicPr/>
          <p:nvPr/>
        </p:nvPicPr>
        <p:blipFill>
          <a:blip r:embed="rId1"/>
          <a:stretch/>
        </p:blipFill>
        <p:spPr>
          <a:xfrm>
            <a:off x="6172200" y="3809880"/>
            <a:ext cx="2678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Franklin Gothic Heavy"/>
              </a:rPr>
              <a:t>The story began, “Long ago, there was a graceful dancer.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MCj00844080000[1]"/>
          <p:cNvPicPr/>
          <p:nvPr/>
        </p:nvPicPr>
        <p:blipFill>
          <a:blip r:embed="rId1"/>
          <a:stretch/>
        </p:blipFill>
        <p:spPr>
          <a:xfrm>
            <a:off x="6172200" y="3809880"/>
            <a:ext cx="2678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Franklin Gothic Heavy"/>
              </a:rPr>
              <a:t>The doctor seems the busiest toward the end of the day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MCj00844080000[1]"/>
          <p:cNvPicPr/>
          <p:nvPr/>
        </p:nvPicPr>
        <p:blipFill>
          <a:blip r:embed="rId1"/>
          <a:stretch/>
        </p:blipFill>
        <p:spPr>
          <a:xfrm>
            <a:off x="6172200" y="3809880"/>
            <a:ext cx="2678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20:27:49Z</dcterms:created>
  <dc:creator>llefever</dc:creator>
  <dc:description/>
  <dc:language>en-US</dc:language>
  <cp:lastModifiedBy>teacher</cp:lastModifiedBy>
  <dcterms:modified xsi:type="dcterms:W3CDTF">2011-02-22T02:03:09Z</dcterms:modified>
  <cp:revision>2</cp:revision>
  <dc:subject/>
  <dc:title>Bad Dog, Dodger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53792661</vt:r8>
  </property>
  <property fmtid="{D5CDD505-2E9C-101B-9397-08002B2CF9AE}" pid="3" name="_AuthorEmail">
    <vt:lpwstr>LLeFever@bcbe.org</vt:lpwstr>
  </property>
  <property fmtid="{D5CDD505-2E9C-101B-9397-08002B2CF9AE}" pid="4" name="_AuthorEmailDisplayName">
    <vt:lpwstr>Lara M. LeFever</vt:lpwstr>
  </property>
  <property fmtid="{D5CDD505-2E9C-101B-9397-08002B2CF9AE}" pid="5" name="_EmailSubject">
    <vt:lpwstr>2nd grade Scott Foresman</vt:lpwstr>
  </property>
</Properties>
</file>